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7F5-0415-4100-8CD5-94FEEAA2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121-93AF-4683-8C29-729CF89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5CA-EBD7-46A2-A049-CB88A953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ADD-E922-4C75-A793-480D3B2B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B87B-F596-4238-897E-ED9EB53B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4F97-A987-48D8-9427-B47B87AE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A12A-8FD4-4CB1-BF19-B3FC3A2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C7D8-2BEC-4B7B-A448-1655671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DE4-D2A7-4C8E-A443-B0DC1E4B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5902-6931-4E03-9A62-37535588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D11-2C00-40EB-8EF8-5A265BF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2DF-B1E8-48C9-B482-EB899D1B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3FF-F49A-4CA9-B15F-DB832BA7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626-ADB6-4EAB-8B39-04E373DC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E6A-9956-4658-A61C-BA50626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3827-3710-4512-8FDA-9F1765F1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F44C-9935-4453-9CFC-793EA479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585-4E3D-4386-818D-9ED34AEE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E47-EB69-43B8-A63C-CD58C17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1E8-ED54-4EDB-9790-9A80F59D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869-000A-4D17-BFF9-EA16C553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E04-D394-40F3-93E6-2D10E48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B71-F21F-4A0D-B778-7E375ED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DCB-836E-45F4-B363-FC707AB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Tun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A199-3056-4F3F-A60A-BCB3690161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68D-34E7-4823-B422-22A3736D0E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vtc-edtech.org/" TargetMode="External"/><Relationship Id="rId3" Type="http://schemas.openxmlformats.org/officeDocument/2006/relationships/hyperlink" Target="http://www.portaportal.com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TS*T Certif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666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ilding An Electronic Portfol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038480"/>
            <a:ext cx="52578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ed by Karen Camp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ctional Technology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rrisonburg City Public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implement curriculum plans that include methods and strategies for applying technologies to maximize student learning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, pictures, student products showing students using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with content and technology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in which students have options for obtaining information, formulating ideas, and creating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in which students use H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ation from principal/evaluator on lesson incorporating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V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apply technology to facilitate a variety of effective assessment and evaluation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ssess student learning using technolog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B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ollect and analyze data to improve teaching</a:t>
            </a:r>
            <a:br>
              <a:rPr sz="34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ssess students’ appropriate use of technology resour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6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V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apply technology to facilitate a variety of effective assessment and evaluation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electronic portfol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ic grad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and class data (ARP report, PALS assessment, electronic grade book) with narratives about decisions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brics that you have developed to assess students’ technology use in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3680" indent="-463680">
              <a:buClr>
                <a:srgbClr val="000000"/>
              </a:buClr>
              <a:buFont typeface="Verdan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use technology to enhance their productivity and professional practice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580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ngage in technology-enhanced professional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B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Reflect on professional pract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pply technology to increase produ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D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ommunicate and collaborate with peers, parents, and larger commun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3680" indent="-463680">
              <a:buClr>
                <a:srgbClr val="000000"/>
              </a:buClr>
              <a:buFont typeface="Verdan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use technology to enhance their productivity and professional practice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580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completion of an online course or experience to improve i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essional develop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rratives about conferences or inservices atten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materials created with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sletter or class web pages used to provide information to par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32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I.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eachers understand the social, ethical, legal, and human issues surrounding the use of technology in PK-12 schools and apply that understanding in pract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Model and teach ethics</a:t>
            </a:r>
            <a:br>
              <a:rPr sz="3000"/>
            </a:b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mpower learners with diverse and special nee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ffirm divers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751"/>
              </a:spcBef>
              <a:buClr>
                <a:srgbClr val="003366"/>
              </a:buClr>
              <a:buFont typeface="Verdan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Promote safe and responsible use of techn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78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Facilitate equitable ac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32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I.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eachers understand the social, ethical, legal, and human issues surrounding the use of technology in PK-12 schools and apply that understanding in pract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ance certificate from a copyright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purposeful use of assistive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that reflects respect and appreciation for cultural backgrounds of lear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 or guidelines for the use of technology in the class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idence of classroom management (scheduling, room arrangement, rules) that ensure equitable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tting Start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34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the follow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fessional Development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ng and short term go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rategies for reaching go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lassroom Technology Management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verview of how you use technology in the classroo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eflective Jour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cument your thoughts as you use technolog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ds of Wisd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important parts of your portfol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flection – you describe how you meet the elements of the rub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tifacts – evid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ally discuss in your reflection how your artifacts address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em in the rub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similar wording as in the rub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how artifacts influence classroom instru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914400"/>
          <a:ext cx="8229600" cy="4948200"/>
        </p:xfrm>
        <a:graphic>
          <a:graphicData uri="http://schemas.openxmlformats.org/drawingml/2006/table">
            <a:tbl>
              <a:tblPr/>
              <a:tblGrid>
                <a:gridCol w="1524240"/>
                <a:gridCol w="1768320"/>
                <a:gridCol w="1644840"/>
                <a:gridCol w="1645920"/>
                <a:gridCol w="164628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velop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proac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cee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ek Professional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llects professional development opportunity notices or sporadically attends professional development activities. Does not attend those that increase technology expertise. When attending, continues to reinforce knowledge already demonstra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tends professional development activities but is inconsistent in making selections based on professional goals and learning new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ularly takes advantage of professional development opportunities in alignment with a professional development plan that increases knowledge and skills that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arches out professional development opportunities that support a professional development plan as well as those that provide a preview of coming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how technology supports student learn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mines how technology supports learning in general but does not evaluate whether it specifically meets student needs. Does not consistently exercise critical judgment in evaluating technolo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valuates how technology supports student learning but either sees the application in very narrow terms or accepts the judgment of others without review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, considers multiple factors for application, and is able to prioritize which are most important for the time and resources availab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. Is able to formulate uses of new technologies in ways that are not currently documented. Is innovative in ideas for applicat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880" y="304920"/>
          <a:ext cx="8229600" cy="532800"/>
        </p:xfrm>
        <a:graphic>
          <a:graphicData uri="http://schemas.openxmlformats.org/drawingml/2006/table">
            <a:tbl>
              <a:tblPr/>
              <a:tblGrid>
                <a:gridCol w="1481400"/>
                <a:gridCol w="6748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ubric I.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s demonstrate continual growth in technology knowledge and skills to stay abreast of current and emerg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Educational Technology Standards for Teachers (NETS*T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24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rget technology use in the teaching-learning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hance your teaching and improve student lear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 opportunities for students to use technology “to learn, communicate, and develop knowledge products”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STE, 2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ds of Wisd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 your reflection in wo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py/pas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mit document as refl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aware of file size and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e PDFCreator is avail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risworks may not be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c users – add file extensi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.jpg or .gif for pic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ke sure evaluator has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ds of Wisd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profession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cuments can not be changed once they have been submit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current artifacts (within the last 2 years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ove all student names and/or identifying information before submitting artifac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VTC EdTech webs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svtc-edtech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TS*T Porta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portaportal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est username: NETS*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Closer Lo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Stand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anc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Tung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ubr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.  Teachers demonstrate a sound understanding of technology operations and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monstrate basic knowledge and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249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B.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tay current with instructional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914400"/>
          <a:ext cx="8229600" cy="5005440"/>
        </p:xfrm>
        <a:graphic>
          <a:graphicData uri="http://schemas.openxmlformats.org/drawingml/2006/table">
            <a:tbl>
              <a:tblPr/>
              <a:tblGrid>
                <a:gridCol w="1524240"/>
                <a:gridCol w="1768320"/>
                <a:gridCol w="1644840"/>
                <a:gridCol w="1645920"/>
                <a:gridCol w="164628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velop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proach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cee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ek Professional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llects professional development opportunity notices or sporadically attends professional development activities. Does not attend those that increase technology expertise. When attending, continues to reinforce knowledge already demonstrat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tends professional development activities but is inconsistent in making selections based on professional goals and learning new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gularly takes advantage of professional development opportunities in alignment with a professional development plan that increases knowledge and skills that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arches out professional development opportunities that support a professional development plan as well as those that provide a preview of coming technologies to support student learnin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how technology supports student learnin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495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amines how technology supports learning in general but does not evaluate whether it specifically meets student needs. Does not consistently exercise critical judgment in evaluating technolog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valuates how technology supports student learning but either sees the application in very narrow terms or accepts the judgment of others without review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, considers multiple factors for application, and is able to prioritize which are most important for the time and resources availab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itically evaluates how technology supports student learning. Is able to formulate uses of new technologies in ways that are not currently documented. Is innovative in ideas for applicatio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0880" y="304920"/>
          <a:ext cx="8229600" cy="532800"/>
        </p:xfrm>
        <a:graphic>
          <a:graphicData uri="http://schemas.openxmlformats.org/drawingml/2006/table">
            <a:tbl>
              <a:tblPr/>
              <a:tblGrid>
                <a:gridCol w="1481400"/>
                <a:gridCol w="6748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ubric I.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s demonstrate continual growth in technology knowledge and skills to stay abreast of current and emerg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sible Artifa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rtificates from workshops, classes, confere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sional development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ion with supporting lesson plan on how technology supports learning and factors for its appl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sson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. Teachers plan and design effective learning environments and experiences supported by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sign technology integrated lessons for diverse needs of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pply current research when pla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Locate and evaluate technology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Manage technology resources in the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003366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lan strategies to manage student learning in technology integrated les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.  Teachers plan and design effective learning environments and experiences supported by technology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that includes differentiation and uses technology in different 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on plan citing rese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urnal entry discussing challenges of applying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of resources to support student lear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bric for evaluating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Plan B” – plans for dealing when technology does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plan of class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achers implement curriculum plans that include methods and strategies for applying technologies to maximize student learning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Address the SOL and NETS*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B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Support diverse learning styles through student-centered strateg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C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Encourage higher-order thinking skills (HO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D.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Manage student learning activ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40:49Z</dcterms:created>
  <dc:creator>HCPS</dc:creator>
  <dc:description/>
  <dc:language>en-US</dc:language>
  <cp:lastModifiedBy>Virginia Beach Public Schools</cp:lastModifiedBy>
  <dcterms:modified xsi:type="dcterms:W3CDTF">2006-03-15T14:27:30Z</dcterms:modified>
  <cp:revision>12</cp:revision>
  <dc:subject/>
  <dc:title>NETS*T Certification</dc:title>
</cp:coreProperties>
</file>